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  <p:custShowLst>
    <p:custShow name="ELI Sect 2" id="0">
      <p:sldLst>
        <p:sld r:id="rId3"/>
        <p:sld r:id="rId12"/>
      </p:sldLst>
    </p:custShow>
    <p:custShow name="ELI Sect 3" id="1">
      <p:sldLst>
        <p:sld r:id="rId4"/>
        <p:sld r:id="rId5"/>
        <p:sld r:id="rId6"/>
        <p:sld r:id="rId7"/>
        <p:sld r:id="rId8"/>
        <p:sld r:id="rId9"/>
        <p:sld r:id="rId10"/>
        <p:sld r:id="rId11"/>
      </p:sldLst>
    </p:custShow>
    <p:custShow name="ELI STP" id="2">
      <p:sldLst>
        <p:sld r:id="rId6"/>
        <p:sld r:id="rId11"/>
        <p:sld r:id="rId7"/>
      </p:sldLst>
    </p:custShow>
    <p:custShow name="Chapter menu" id="3">
      <p:sldLst>
        <p:sld r:id="rId3"/>
        <p:sld r:id="rId12"/>
        <p:sld r:id="rId4"/>
        <p:sld r:id="rId5"/>
        <p:sld r:id="rId6"/>
        <p:sld r:id="rId7"/>
        <p:sld r:id="rId8"/>
        <p:sld r:id="rId9"/>
        <p:sld r:id="rId10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ources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4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4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3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newable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400" y="1498320"/>
            <a:ext cx="83343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thermal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from Moving 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from Biom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from W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 Hydroelectric Dam Generates Electri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l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idal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65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geothermal energy may be used as a substitute for fossil fu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ive and active methods of harnessing energy from the s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ater and wind can be harnessed to generate exlectiric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Geothermal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4103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renewable resource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geothermal energy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resulting steam from water passing by nearby magma or hot gases related by magma, deep in the earth, produces a large amount of geothermal energ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ngineers and scientists have harnessed geothermal energy by drilling wells to reach the hot wat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5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steam and hot water are used as a source of heat and as sources of power to drive turbines, which generate electric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31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lar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ar energy can be converted to heat energy in many different 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passive syst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sunlight enters the house and warms the building materials, which stores some heat for the eve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ctive syst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ludes the use of solar collectors and photovoltaic cells to collect heat or convert solar energy into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olar Energ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ergy from Moving Wate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ydroelectric ener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water is one of the oldest sources of energy. Energy can be harnessed from the running water of rivers and streams or from ocean ti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ay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% of the electricity in the United States comes from hydroelectric power pl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a hydroelectric plant, massive dams hold back running water and channel the water through the plant.  Inside the plant, the water spins turbines, which turn generators to produce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41032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oma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omass is a major source of energy in many developing count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that decompose the organic matter produce gases, such as methane that can be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 fuels, such as ethanol, also form from the action of bacteria on biom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half of all trees that are cut down are used as fuel for heating or coo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ergy from Biomas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three sources of renewabl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nswers may vary but should include three of the following: geothermal, solar, hydroelectric, and biom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eading check 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nergy from Win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energy is now being used to produce electricity in locations that have constant w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Wind farm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have hundreds of giant wind turbines that can produce enough energy to meet the electricity needs of entire commun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 generators are not practical everywhere. Because the wind does not always blow, wind energy cannot be depended on as an energy source for every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76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dams generate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tretch/>
        </p:blipFill>
        <p:spPr>
          <a:xfrm>
            <a:off x="762120" y="2581200"/>
            <a:ext cx="7380000" cy="32101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a Hydroelectric Dam Generates Electricity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2-04T16:06:59Z</dcterms:modified>
  <cp:revision>671</cp:revision>
  <dc:subject/>
  <dc:title>No Slide Title</dc:title>
</cp:coreProperties>
</file>